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88638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17600" y="685440"/>
            <a:ext cx="2422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2E08-9851-40EC-834B-9BFB8E73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C43-89E3-437C-8C2A-99316CCF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8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E48-E08D-4005-8663-744398F0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961920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240" y="8120160"/>
            <a:ext cx="961920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52F-9AEE-4851-951E-6C2E4DC8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24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242-56FE-4AC9-8DB8-BA5E419B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480" y="353880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8720" y="353880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240" y="812016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480" y="812016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8720" y="8120160"/>
            <a:ext cx="30970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EBF-E6B5-43E6-BD1B-309E1D24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240" y="3538800"/>
            <a:ext cx="961920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204-EF14-4966-9123-651B1E40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961920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DE4-947E-4DF6-BF8A-C25AFBC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071-1B4B-4772-8EA0-180063F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C20-773A-455E-AFAA-A681781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240" y="603360"/>
            <a:ext cx="961920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478-12E3-4ADC-89FA-63D00FD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24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96D-6214-40AB-AB84-55A1832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12016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ECC-5C36-497D-85D6-42A2C0D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240" y="603360"/>
            <a:ext cx="961920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24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38800"/>
            <a:ext cx="46940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240" y="8120160"/>
            <a:ext cx="961920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2B2-8B5E-41F6-8345-348B0E3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1360" y="13779000"/>
            <a:ext cx="2227320" cy="100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51120" y="13779000"/>
            <a:ext cx="3386160" cy="100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659360" y="13779000"/>
            <a:ext cx="2227320" cy="10098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15B4C542-A007-464B-AED8-7C74B4FFF552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8" descr="&#10;wanted.jpg                                                     00004382_x0006_Disk 4                         BC922999:"/>
          <p:cNvPicPr/>
          <p:nvPr/>
        </p:nvPicPr>
        <p:blipFill>
          <a:blip r:embed="rId2"/>
          <a:stretch/>
        </p:blipFill>
        <p:spPr>
          <a:xfrm>
            <a:off x="-3240" y="0"/>
            <a:ext cx="10694880" cy="1512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" name="Text Box 29"/>
          <p:cNvSpPr/>
          <p:nvPr/>
        </p:nvSpPr>
        <p:spPr>
          <a:xfrm>
            <a:off x="7059600" y="1378584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posters.co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492880" y="7543800"/>
            <a:ext cx="209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492880" y="6372360"/>
            <a:ext cx="209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24400" y="5832360"/>
            <a:ext cx="2095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6"/>
          <p:cNvSpPr/>
          <p:nvPr/>
        </p:nvSpPr>
        <p:spPr>
          <a:xfrm>
            <a:off x="1192320" y="3693960"/>
            <a:ext cx="867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8"/>
          <p:cNvSpPr/>
          <p:nvPr/>
        </p:nvSpPr>
        <p:spPr>
          <a:xfrm>
            <a:off x="1281240" y="2178000"/>
            <a:ext cx="87073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DEA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FOR Injuring Civilians And Killing Pol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>
            <a:off x="782640" y="11853720"/>
            <a:ext cx="912024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Stencil"/>
              </a:rPr>
              <a:t>REWARD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1"/>
          <p:cNvSpPr/>
          <p:nvPr/>
        </p:nvSpPr>
        <p:spPr>
          <a:xfrm>
            <a:off x="782640" y="10755360"/>
            <a:ext cx="912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Reap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4"/>
          <p:cNvSpPr/>
          <p:nvPr/>
        </p:nvSpPr>
        <p:spPr>
          <a:xfrm>
            <a:off x="782640" y="895320"/>
            <a:ext cx="909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Stencil"/>
              </a:rPr>
              <a:t>WANTED!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http://25.media.tumblr.com/tumblr_m4uzknlWXK1qlxwcdo1_500.jpg"/>
          <p:cNvPicPr/>
          <p:nvPr/>
        </p:nvPicPr>
        <p:blipFill>
          <a:blip r:embed="rId1"/>
          <a:stretch/>
        </p:blipFill>
        <p:spPr>
          <a:xfrm>
            <a:off x="1504800" y="6364440"/>
            <a:ext cx="8123400" cy="4565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2590920" y="12903120"/>
            <a:ext cx="479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Stencil"/>
              </a:rPr>
              <a:t>$$$$90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0:37:33Z</dcterms:created>
  <dc:creator>julie skelton</dc:creator>
  <dc:description/>
  <dc:language>en-US</dc:language>
  <cp:lastModifiedBy>Red Deer Public Teacher</cp:lastModifiedBy>
  <cp:lastPrinted>2007-09-05T20:33:12Z</cp:lastPrinted>
  <dcterms:modified xsi:type="dcterms:W3CDTF">2013-01-09T20:45:00Z</dcterms:modified>
  <cp:revision>16</cp:revision>
  <dc:subject/>
  <dc:title>Your Title Here</dc:title>
</cp:coreProperties>
</file>